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ct" ContentType="image/x-pict"/>
  <Override PartName="/ppt/media/image7.png" ContentType="image/png"/>
  <Override PartName="/ppt/media/image12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0.png" ContentType="image/png"/>
  <Override PartName="/ppt/media/image8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07D8-13C5-4A63-97BD-8121FA035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tweak the standard definition of ‘regulates’ to be occurrent-based instead of process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have been reviewed, can be implemented 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some relationship (currently undefined) between ‘transcription regulator activity’  and ‘regulation of transcription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ne Morphogenetic Proteins (Bmps) are secreted growth factors that play crucial roles in animal development across the phylogenetic spectr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mp signaling results in the phosphorylation and nuclear translocation of Smads, downstream signal transducers that bind DNA. In Drosophila,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inc finger protein Schnurri (Shn) plays a key role in signaling by the Bmp2/Bmp4 homolog Decapentaplegic (Dpp), by forming a Shn/Smad re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 on defined promoter elements in the brinker (brk) gene. Brk is a transcriptional repressor that downregulates Dpp target g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a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t al.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elopment 133, 4025-4034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6F0-B7B3-42E7-ABB5-48D59D8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618-E276-44E3-9255-8ABF1A70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F21-9818-474D-80FD-D35D86CC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810-041E-4D85-A048-A22BD19A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9BD-A5C6-48CF-9B15-91AFB039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B46-76F2-4F81-B267-0F9ED8FEC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89FE-E3E1-46ED-9E40-A562C6BE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606F-3BDC-4AE5-894A-763C1DBA8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318-E4B6-4CDD-B43A-DEC05F48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EFB8-CF1E-44CB-B1FC-EBF7553A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6AB1-799C-4622-94E1-C7ED27AD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6FE-95B1-41B8-B78B-6185D42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B679-936D-4169-9804-C8515C368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‘regulates’ relationsh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, David, Tan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102120" cy="121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362480" cy="361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al Trans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08040" y="225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2193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cascade of processes by which a signal interacts with a receptor, causing a change in the level or activity of a second messenger or other downstream target, and </a:t>
            </a:r>
            <a:r>
              <a:rPr b="0" lang="en-US" sz="1700" spc="-1" strike="noStrike">
                <a:solidFill>
                  <a:srgbClr val="00ff00"/>
                </a:solidFill>
                <a:latin typeface="Arial"/>
              </a:rPr>
              <a:t>ultimately effecting a change in the functioning of the cell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981080" y="2514600"/>
            <a:ext cx="4648320" cy="4046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39625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0" t="2957" r="0" b="0"/>
          <a:stretch/>
        </p:blipFill>
        <p:spPr>
          <a:xfrm>
            <a:off x="76320" y="1447920"/>
            <a:ext cx="2522520" cy="4997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rcRect l="9328" t="4579" r="517" b="0"/>
          <a:stretch/>
        </p:blipFill>
        <p:spPr>
          <a:xfrm>
            <a:off x="3429000" y="2590920"/>
            <a:ext cx="5638680" cy="2701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function to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relationship between enzyme regulators and the enzyme activities themsel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change MF ontology from being a strict is_a hierarc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or activity (66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or activity (6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ibitor activity (90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lecular Func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Intra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859280" y="2259000"/>
            <a:ext cx="3071880" cy="3282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BP-&gt;M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032440" y="1600200"/>
            <a:ext cx="3730680" cy="51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-ontology Links MF-&gt;B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3092400" cy="1209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284720" y="2427120"/>
            <a:ext cx="3957480" cy="2900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90240" y="5410080"/>
            <a:ext cx="775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cular functions that always occur in a single type of biological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 part of that biological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ure of Biological Reg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 products execute molecular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ons of functions can be regulatory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ease inhibi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or can take part in regulatory biological processes (ex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GF b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ceptor activ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the Beginning, There Were Two Relationshi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_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_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re Were Also  ‘Regulation’ Ter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95280" y="609480"/>
            <a:ext cx="6934320" cy="60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made the ‘regulation of X’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‘X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438800" cy="20192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4952880" y="3809880"/>
            <a:ext cx="1371600" cy="609840"/>
          </a:xfrm>
          <a:prstGeom prst="ellipse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791320" y="4495320"/>
            <a:ext cx="3808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55760" y="579132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, it’s not really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not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part_of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tion of X =  “Any process that modulates the frequency, rate or extent of X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ocess can regulate X without being an integral part of 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needed ‘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regul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4038480"/>
            <a:ext cx="426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ree kinds types of regulation were described by the original regulation terms in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 reg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biological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[i] regulation of molec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a- and Inter-ontology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00200" y="2895480"/>
            <a:ext cx="5638680" cy="2311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7320" y="1523880"/>
            <a:ext cx="898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s can regulate occurr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rrent = biological process OR (execution of a) molecul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require any additional relationship types (like has_part, for ins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MP Signaling Path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441043" r="0" b="0"/>
          <a:stretch/>
        </p:blipFill>
        <p:spPr>
          <a:xfrm>
            <a:off x="380880" y="2268360"/>
            <a:ext cx="3581640" cy="3446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38480" y="4114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76400" y="990720"/>
            <a:ext cx="70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iological objective of BMP signaling is to regulate tran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3640" y="17953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1371600"/>
            <a:ext cx="8686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rcRect l="0" t="2957" r="0" b="0"/>
          <a:stretch/>
        </p:blipFill>
        <p:spPr>
          <a:xfrm>
            <a:off x="5173560" y="1523880"/>
            <a:ext cx="2522520" cy="4997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4T16:51:35Z</dcterms:created>
  <dc:creator>Tanya Berardini</dc:creator>
  <dc:description/>
  <dc:language>en-US</dc:language>
  <cp:lastModifiedBy>Iry Witham</cp:lastModifiedBy>
  <dcterms:modified xsi:type="dcterms:W3CDTF">2008-05-19T17:17:15Z</dcterms:modified>
  <cp:revision>9</cp:revision>
  <dc:subject/>
  <dc:title>The ‘regulates’ relationships</dc:title>
</cp:coreProperties>
</file>